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74F-940E-4978-8B75-72C2A347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E53-DE3A-4A1B-8CAA-59BB2AE3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E9B-60FE-495D-A33F-A90637CE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3B5-D8BE-4721-A0C0-DB9DF1C6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A3C-09CA-438E-9967-C41D550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56D-9B74-415F-A827-70DD6C7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6EE-18B1-473C-9452-25C058F6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FDB-6F5D-48D5-8396-9047C5E7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3DB-7DA0-4176-A8CB-34D297D1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948-FE8B-4108-A4E7-457E189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B3A-EE5E-4B74-A989-DB172DB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181-0D70-47DF-BABC-84B0E5E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F0E1-7793-4F1E-A3B9-D306EC950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bc.co.uk/education/mathsfile/shockwave/games/datapick.html" TargetMode="External"/><Relationship Id="rId2" Type="http://schemas.openxmlformats.org/officeDocument/2006/relationships/hyperlink" Target="http://education.jlab.org/topquarkgam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tmath.com/hotmath_help/games/ctf/ctf_hotmath.swf" TargetMode="External"/><Relationship Id="rId2" Type="http://schemas.openxmlformats.org/officeDocument/2006/relationships/hyperlink" Target="http://hotmath.com/hotmath_help/games/ctf/ctf_hotmath.sw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Statistics/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swbat: review graphing concepts in the MEDIA CENTE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Sites to 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bc.co.uk/education/mathsfile/shockwave/games/datapic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ucation.jlab.org/topquarkgam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swego.org/ocsd-web/games/BillyBug2/bug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Here’s some mo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tmath.com/hotmath_help/games/ctf/ctf_hotmath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bc.co.uk/schools/ks3bitesize/maths/handling_data/representing_data/activity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unbrain.com/cgi-bin/co.cgi?A1=c&amp;A2=0&amp;A3=0&amp;A4=0&amp;A5=OisADS&amp;A6=[4]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uhaus 93"/>
              </a:rPr>
              <a:t>Homework: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auhaus 93"/>
              </a:rPr>
              <a:t>Finish hurricane ref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22:09:14Z</dcterms:created>
  <dc:creator>ledufra</dc:creator>
  <dc:description/>
  <dc:language>en-US</dc:language>
  <cp:lastModifiedBy>jbmayo</cp:lastModifiedBy>
  <dcterms:modified xsi:type="dcterms:W3CDTF">2011-11-07T14:55:08Z</dcterms:modified>
  <cp:revision>4</cp:revision>
  <dc:subject/>
  <dc:title>Statistics/Data Analysis</dc:title>
</cp:coreProperties>
</file>